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F48-3763-4B45-92B9-8D99CAE0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FEB-0504-41F8-A6BF-9724670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35A-D36C-48AB-A4C0-1F37C66E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F97-9EEB-497F-B2C6-6ABEBCC7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2A8-419D-4DBE-BEDB-53BA1576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A54-C1D0-41ED-B80E-CCE40CA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DC9-1156-43DC-A063-83459B6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DDA-5440-4088-B40B-D025CF2F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1C1-32C8-46FA-8FE0-E7F029D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07D-1BAC-4045-A3F1-658C798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8E8-E968-4054-8DD4-124CFF68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1CC-3F1E-4D34-9511-C8E54B9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4D2-5239-4193-A3EE-9E1B387B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 and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289080" y="5257800"/>
            <a:ext cx="88642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8864640" cy="2668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40384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r B has finer markings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should make it easier to get one more digit when meas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measu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uch thing as an exact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git is considered significant when it is known with some reliability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ther words, even though the last number is an estimate, it is signific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we express what is significant when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the decimal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2 Sig. Figs. Are Sig. F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only to mark the decimal place are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. Fig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the ze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533520" y="22860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2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0.00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1.0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) 967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0.000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0.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0.005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0.008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3) 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4)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 78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29000" y="228600"/>
            <a:ext cx="2133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6) 0.0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7) 3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8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9) 0.00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0) 0.0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1) 0.00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2) 0.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3) 4.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4) 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5)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6) 0.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7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8) 7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9) 78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0) 78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394240" y="36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867280" y="228600"/>
            <a:ext cx="251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) 0.00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) 0.0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) 230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) 100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) 0.006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) 9.6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) 7.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) 70,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) 0.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) 0.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) 0.0076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) 0.000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) 0.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) 0.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) 670,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572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t is assumed blue answers do not have zeros that arose from mere conversion (grams to kg, meters to kilometer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33520" y="22860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2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0.008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1.0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) 967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0.000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0.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0.005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) 0.008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3) 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4)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) 78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29000" y="228600"/>
            <a:ext cx="2133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6) 0.0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7) 3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8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9) 0.00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0) 0.00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1) 0.00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2) 0.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3) 4.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4) 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5)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6) 0.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7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8) 7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9) 78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0) 78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394240" y="36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867280" y="228600"/>
            <a:ext cx="251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) 0.00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) 0.0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) 230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) 100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) 0.006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) 9.6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) 7.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) 70,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) 0.0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) 0.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) 0.0076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) 0.000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) 0.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) 0.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) 670,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38280" y="228600"/>
            <a:ext cx="68580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4120" y="304920"/>
            <a:ext cx="60948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8077320" y="228600"/>
            <a:ext cx="68580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72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t is assumed blue answers do not have zeros that arose from mere conversion (grams to kg, meters to kilometer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this type of mathematical process must round to the last column of the least accurat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never contain more Sig. Figs. than your least accurat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following problem expressing your answer with the proper amount of Sig. Fig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x 3.17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480" y="5105520"/>
            <a:ext cx="4496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654 becomes 1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41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oe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change to proper sig. Figs. at the end of a compu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39:30Z</dcterms:created>
  <dc:creator>Fio Babaganouch</dc:creator>
  <dc:description/>
  <dc:language>en-US</dc:language>
  <cp:lastModifiedBy>"%username%"</cp:lastModifiedBy>
  <dcterms:modified xsi:type="dcterms:W3CDTF">2016-09-08T12:53:41Z</dcterms:modified>
  <cp:revision>14</cp:revision>
  <dc:subject/>
  <dc:title>Significant Digits and Measurement</dc:title>
</cp:coreProperties>
</file>